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50A-2BB1-4345-96F9-E7D56CCE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0D9-5FB6-4D6B-9E86-AC5321E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A36-7C55-4EEE-B7C6-D57D654D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EFD-4B99-4859-B834-5D8AE458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F7C-822B-4556-93C8-A54BFBF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E8E-FC6F-4FEC-80AF-337FA0A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E70-84CB-40C7-9268-281C160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16A-14F1-4D51-B327-83E750BD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5D8-8E6E-46DB-A909-E89EEFD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E6E-DBE1-4B93-B0DE-58FDB6C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E56-885F-4CB8-8EB2-C3199A7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269-DC30-4C2F-B60C-7061C36C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0E4A-AEC2-439D-AFEF-9887BA3A1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images.google.co.uk/imgres?imgurl=http://www.clker.com/cliparts/2/4/3/3/12571043261351773352wasat_Theatre_Masks.svg.hi.png&amp;imgrefurl=http://www.clker.com/clipart-30136.html&amp;usg=__XAKcXh-9yIjP1sY4H7HPAsPlKX0=&amp;h=440&amp;w=600&amp;sz=47&amp;hl=en&amp;start=1&amp;itbs=1&amp;tbnid=VhonfpXLnQJ4rM:&amp;tbnh=99&amp;tbnw=135&amp;prev=/images%3Fq%3DWasat%2BTheatre%2BMasks%2BClip%2BArt%26gbv%3D2%26hl%3Den%26sa%3D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Fool’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66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l’s Gold (Enemy in Revenue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a player. That player cannot collect any Revenue during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Building 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21668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ilding Boom (Self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place a Castle or Mine marker in any tile that you control or replace a Castle with a 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286000" cy="36828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Dis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All or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166840"/>
            <a:ext cx="22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aster (Enemy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a player.  They must roll a D6 for each Castle, City or Mine.  On a roll of 1 the building is destroy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2166840"/>
            <a:ext cx="2266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 or Nothing (Self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receive an extra 2 Empire Points this round as long as you don’t lose or draw any battles.  If you lose or draw then you receive no Empire Points at all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22936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uts (Self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any battles you fight in this round your opponents must deploy their whole army before you deploy your army and you get the first tur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5229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plomacy (Enemy in Challe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a player.  They cannot issue a challenge against you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229360"/>
            <a:ext cx="22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nd Grab (Self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tile you claim this round only costs 1 Empire Point, rather than the normal 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5229360"/>
            <a:ext cx="2178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ocal Forces (Self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 any battles you fight this round add a +1 to any one of the unit maximums. Eg for Empire Handgunners -/3 would go to -/4 OR Hero -/2 would go to -/3 OR Wizard -/1 would go to -/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9896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     Sc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198960"/>
            <a:ext cx="2286000" cy="36828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    Diplo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19896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   Land Gr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319896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Local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469880" cy="172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2087640" cy="146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01636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0" y="3716280"/>
            <a:ext cx="22320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788000" y="404640"/>
            <a:ext cx="1800000" cy="172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7020000" y="3573360"/>
            <a:ext cx="1898640" cy="1589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08000" y="3573360"/>
            <a:ext cx="2124000" cy="155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7020000" y="40464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Assass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66840"/>
            <a:ext cx="228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sassinate (Enemy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ter deployment pick a enemy Hero or Wizard. They suffer -1 to their Command. Roll 2D6, if you roll over their Command they suffer another -1 Command, for a total of -2 Comman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  S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2166840"/>
            <a:ext cx="230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ies (Enemy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r opponent must choose their army and show it to you before you select your own arm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Sabo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Double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166840"/>
            <a:ext cx="228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botage (Enemy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one city, castle, or mine belonging to another player and roll a D6. Mines are destroyed on a 4+, castles on a 5+, and cities on a 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2166840"/>
            <a:ext cx="226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uble Agent (Enemy in Challe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one player. On a roll of 4+, you may choose who that player challenges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29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uts (Sel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5229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plomacy (Enem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22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nd Grab (Sel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522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cal Forces (Sel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1695240" cy="177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26836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404640"/>
            <a:ext cx="22669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2:30:29Z</dcterms:created>
  <dc:creator>EP</dc:creator>
  <dc:description/>
  <dc:language>en-US</dc:language>
  <cp:lastModifiedBy>EP</cp:lastModifiedBy>
  <dcterms:modified xsi:type="dcterms:W3CDTF">2010-03-03T20:06:11Z</dcterms:modified>
  <cp:revision>12</cp:revision>
  <dc:subject/>
  <dc:title>Slide 1</dc:title>
</cp:coreProperties>
</file>